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8F4-07A7-4E9A-BFF9-9BE5B166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80B-A57E-4E50-BC3D-1207F732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F5C-362F-440B-AE7E-13FA23C5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C50-0B5C-4B43-BDC3-ED34A94D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F67-B275-4154-ACF1-AC590B81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F60-033A-41AA-95B5-6BC8E7A5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116-B5B5-4C45-8868-058F30D8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39C-CF38-4243-8D2D-EE1F8EBC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C3D-A195-4817-8639-74AFAFDA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E81-5E6A-445C-A900-E842BAC2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26C-B20B-4459-AAD1-F66CD019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322-D35A-4558-9E35-FCFAE8DF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4176-D65A-4022-9123-34BCFD6BC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2 Ot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v nebi, deti tvoj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tče v nebi, deti tv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kláňajú sa pr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 teb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chvály, vďaky, prosby sv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ysielajú s pokorou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revádzaj nás milosť tv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v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ad nami tvoja tvár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uj hojnú nebies vla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ucha svojho mocný prú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hnaj každú dobrú sna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lebom z neba sýť svoj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revádzaj nás milosť tv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v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ad nami tvoja tvár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zácne zrno svojho Sl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ráč do sŕdc zasie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by cirkev Ježiš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ohla rá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 prekvi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revádzaj nás milosť tv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v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ad nami tvoja tvár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06:24Z</dcterms:modified>
  <cp:revision>23</cp:revision>
  <dc:subject/>
  <dc:title>Je veľký náš Pán, on slávy je Kráľ Nech do všetkých strán  spev vrúcnych znie chvál.</dc:title>
</cp:coreProperties>
</file>